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78B2-DF15-41B0-8C2B-0ED91FE7D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D581-1D1E-4AB6-AACE-F6FBE17A9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E412-1971-4DCE-957B-1E3E33400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FFAD-5358-4220-B6BA-9BCBC3EAA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27F844-6E3B-420F-9C0A-F4564DC1A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E8A124-1DFD-4C7A-815C-7774272AC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EB2BD0-92A5-4232-A33F-1CB525661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DE5814-9A76-4C84-B11D-7FBDD95F8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5E0D8B-6CB1-4573-8622-7261FF9D2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1B6F71-72B3-4BC0-92BF-BD1A56659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9DC56A-8AE6-4A5F-829B-E59F0202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413F-CE6A-47EE-AE7F-A8F62C81A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420DBE-C253-4A59-BE9E-CDBB0BAE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7F1D1A-8111-44D6-A812-CCEC22F10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E75960-DE48-4DB3-A162-D11C35F31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BAC84A-0AEF-4319-91FF-4D8E03AE4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321F1A-502B-4FA6-A46C-46955C484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5DD9-EC97-4188-9A9D-58EB5038D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BB70-2A5E-429C-941D-A892A6570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7D5B-5620-4A80-8CB2-1658A0BB3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49CF-AD6B-4144-A1DF-7A416FED5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8EF3-BFAC-4082-9ABF-E7DE31EBE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8A2F-E2D6-4AA1-9DF4-CA48874D8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007D-2DAF-44B0-86E6-17A89136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5b5b8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2f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4529ab"/>
              </a:gs>
              <a:gs pos="100000">
                <a:srgbClr val="00336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5f5f87"/>
                </a:gs>
                <a:gs pos="100000">
                  <a:srgbClr val="1010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101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101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01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101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101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494977"/>
                </a:gs>
                <a:gs pos="100000">
                  <a:srgbClr val="1010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101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101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101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101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101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101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ccd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5C4C0-1155-4623-8283-A68CC50994A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5b5b8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2f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4529ab"/>
              </a:gs>
              <a:gs pos="100000">
                <a:srgbClr val="00336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5f5f87"/>
                </a:gs>
                <a:gs pos="100000">
                  <a:srgbClr val="1010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101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101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01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101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101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494977"/>
                </a:gs>
                <a:gs pos="100000">
                  <a:srgbClr val="1010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101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101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101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101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101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101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6ccd4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6168A-50CC-4D8F-A781-E35E3F4080B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6ccd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6ccd4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 u="sng">
                <a:solidFill>
                  <a:srgbClr val="c6ccd4"/>
                </a:solidFill>
                <a:uFillTx/>
                <a:latin typeface="Arial"/>
              </a:rPr>
              <a:t>The Slippery Slide</a:t>
            </a:r>
            <a:endParaRPr b="0" lang="en-US" sz="5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Slope of Algeb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c6ccd4"/>
                </a:solidFill>
                <a:uFillTx/>
                <a:latin typeface="Arial"/>
              </a:rPr>
              <a:t>“</a:t>
            </a:r>
            <a:r>
              <a:rPr b="0" i="1" lang="en-US" sz="4400" spc="-1" strike="noStrike" u="sng">
                <a:solidFill>
                  <a:srgbClr val="c6ccd4"/>
                </a:solidFill>
                <a:uFillTx/>
                <a:latin typeface="Arial"/>
              </a:rPr>
              <a:t>My Goals for the Course</a:t>
            </a: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e a project based math unit for high school special education students as well as the regular middle school classroom, that students will remember and apply in future clas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 a comprehension Project Based Instruction that I can share with others and use in the SPED and regular classroom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c6ccd4"/>
                </a:solidFill>
                <a:uFillTx/>
                <a:latin typeface="Arial"/>
              </a:rPr>
              <a:t>Feedback Requests</a:t>
            </a: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sistance with my assessment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don’t think it really covers anyth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am making check lists, T-charts and brainstorming sheets for students to work from as well as a journal master for students to u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sistance with my Unit 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c6ccd4"/>
                </a:solidFill>
                <a:uFillTx/>
                <a:latin typeface="Arial"/>
              </a:rPr>
              <a:t>Unit Summary</a:t>
            </a: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t Descrip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udents will explore the concept of slope of a line and how it is used in the real worl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udent Activ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ainstorming a definition for slop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tructing two or three simple slope models using blocks and different length ruler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aphing their slopes using paper and pencil then the SmartBoar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aring their slope images to real life images from the interne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rmining a formula to determine how an engineer might determine the slope of a line ultimately arriving at rise over ru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c6ccd4"/>
                </a:solidFill>
                <a:uFillTx/>
                <a:latin typeface="Arial"/>
              </a:rPr>
              <a:t>Curriculum-Framing Questions</a:t>
            </a: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sential Ques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do objects mov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t 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oes algebra apply to real lif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oes graphing a line apply to life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is slope use to build roads, buildings and other structur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c6ccd4"/>
                </a:solidFill>
                <a:uFillTx/>
                <a:latin typeface="Arial"/>
              </a:rPr>
              <a:t>Content Questions</a:t>
            </a: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slop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 you graph a line using slop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formula do you use to find the slope of a lin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 you find slope in an equa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rise over ru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 u="sng">
                <a:solidFill>
                  <a:srgbClr val="c6ccd4"/>
                </a:solidFill>
                <a:uFillTx/>
                <a:latin typeface="Arial"/>
              </a:rPr>
              <a:t>Gauging Student Needs Assessment</a:t>
            </a:r>
            <a:endParaRPr b="0" lang="en-US" sz="38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urpose of the Assess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determine what the students know about the coordinate plane and slope of a l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I want to learn from stud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they know about the Unit questions and what they know about graphs with positive and negative val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8229600" y="6143760"/>
            <a:ext cx="914400" cy="71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 u="sng">
                <a:solidFill>
                  <a:srgbClr val="c6ccd4"/>
                </a:solidFill>
                <a:uFillTx/>
                <a:latin typeface="Arial"/>
              </a:rPr>
              <a:t>Gauging Student Needs Assessment</a:t>
            </a:r>
            <a:endParaRPr b="0" lang="en-US" sz="38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moting higher order thin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ainstorming ideas of slop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cating ideas with oth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ing their constructions with those in real lif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ing a definition and formula for slop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 u="sng">
                <a:solidFill>
                  <a:srgbClr val="c6ccd4"/>
                </a:solidFill>
                <a:uFillTx/>
                <a:latin typeface="Arial"/>
              </a:rPr>
              <a:t>Gauging Student Needs Assessment</a:t>
            </a:r>
            <a:endParaRPr b="0" lang="en-US" sz="38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w the assessment helps with plan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 misconceptions can be re-taught by me in small groups if necessary or by pe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erentiation for different levels of cognition may be easily developed with information from the assess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c6ccd4"/>
                </a:solidFill>
                <a:uFillTx/>
                <a:latin typeface="Arial"/>
              </a:rPr>
              <a:t>Vision for Students</a:t>
            </a: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compare real life use of math to the state standards for middle school math and algebr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create a simple real life model and develop a  proper mathematical formul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apply the mathematical formula to curriculum questions and proble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successfully work in cooperative group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keep a guided journal of their work and thought processes during the proje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c6ccd4"/>
                </a:solidFill>
                <a:uFillTx/>
                <a:latin typeface="Arial"/>
              </a:rPr>
              <a:t>21</a:t>
            </a:r>
            <a:r>
              <a:rPr b="0" i="1" lang="en-US" sz="4400" spc="-1" strike="noStrike" u="sng" baseline="30000">
                <a:solidFill>
                  <a:srgbClr val="c6ccd4"/>
                </a:solidFill>
                <a:uFillTx/>
                <a:latin typeface="Arial"/>
              </a:rPr>
              <a:t>st</a:t>
            </a:r>
            <a:r>
              <a:rPr b="0" i="1" lang="en-US" sz="4400" spc="-1" strike="noStrike" u="sng">
                <a:solidFill>
                  <a:srgbClr val="c6ccd4"/>
                </a:solidFill>
                <a:uFillTx/>
                <a:latin typeface="Arial"/>
              </a:rPr>
              <a:t> Century Skills</a:t>
            </a: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ing independently and collaboratively to develop concepts and bringing the two together for a cooperative proje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ing critical thinking and problem solving to develop a workable math formul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ectively accounting for the groups work in a journ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ing internet skills to identify real life objects that match their mode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4T16:20:47Z</dcterms:created>
  <dc:creator>wrichardson</dc:creator>
  <dc:description/>
  <dc:language>en-US</dc:language>
  <cp:lastModifiedBy>wrichardson</cp:lastModifiedBy>
  <dcterms:modified xsi:type="dcterms:W3CDTF">2009-04-05T22:25:46Z</dcterms:modified>
  <cp:revision>14</cp:revision>
  <dc:subject/>
  <dc:title>The Slippery Slide</dc:title>
</cp:coreProperties>
</file>